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81D-C34F-4EF1-A056-CA9B1F84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6AA2-0887-452A-BA87-AADC1DE6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ECF-1387-48C8-A2A6-8A290430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CB8-CD23-41B5-A75C-5B0FCD05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A3D-B069-4F7F-8C50-183B0A32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BFF-5CEF-4B2C-B53A-A92BFE07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D7C-4639-4A69-BFDB-67A6BD27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C47-576E-411E-AD06-BE8451E7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758-7493-4FF6-9484-8362228C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D77-8FB6-4676-80D4-352584B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BF5-79B7-48CF-8525-46FB68DE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370-9ED7-40DB-83E8-D4B86E8D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785E-8DC1-47D8-8667-40590916A8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gsi DP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gsi Legisla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289548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lah fungsi yang dilaksanakan sebagai perwujudan DPR selaku pemegang kekuasaan membentuk undang-unda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gsi Angga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819160"/>
            <a:ext cx="82296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lah fungsi yang dilaksanakan untuk membahas dan memberikan persetujuan atau tidak memberikan persetujuan terhadap rancangan undang-undang tentang APBN yang diajukan oleh Presi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gsi Pengawas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297144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lah fungsi yang dilaksanakan melalui pengawasan atas pelaksanaan undang-undang dan APB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3:05:37Z</dcterms:created>
  <dc:creator>UNY</dc:creator>
  <dc:description/>
  <dc:language>en-US</dc:language>
  <cp:lastModifiedBy>UNY</cp:lastModifiedBy>
  <dcterms:modified xsi:type="dcterms:W3CDTF">2014-04-14T02:18:30Z</dcterms:modified>
  <cp:revision>2</cp:revision>
  <dc:subject/>
  <dc:title>Fungsi DPR</dc:title>
</cp:coreProperties>
</file>